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9B4-D160-4374-A827-6E827A68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D32-D2ED-4741-9C19-4050197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149-6A8A-4A65-8AD8-5BE9ABA2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DCD-B6DE-428D-A2E5-D1422B52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BEA-B8C3-4E60-B8ED-3E6E0910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B0B-5F3C-4B7A-9A3A-FC4BEB16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803-9E46-45FD-A810-A981938E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9BA4-AE80-4B22-ACF6-04C33A4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C71-06CC-45FC-8801-2FB0DEDA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7B4-21EC-4863-BA3C-FE752BC0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4DE-FD60-4881-923A-616A80D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F51-F1DF-4302-8524-446F59A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B4E4-3A1D-4882-AE78-602D3CC48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ayeli ce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924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666880" y="216216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352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333520" y="2666880"/>
            <a:ext cx="38386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286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5149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2182680"/>
            <a:ext cx="9144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1752480"/>
            <a:ext cx="8915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8001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57513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4737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313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990720" y="304920"/>
            <a:ext cx="12192120" cy="8124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271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9T16:45:38Z</dcterms:modified>
  <cp:revision>93</cp:revision>
  <dc:subject/>
  <dc:title>Ancient Greece</dc:title>
</cp:coreProperties>
</file>